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4443-0B73-41D5-B874-B66AEF474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13D2-7F67-4EB2-AA97-23836F882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9D29-FCB7-441F-B8D4-1B3BD273D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C3DD-583F-4920-91C1-B263E0796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42DC-3DC0-45C9-8088-9ADD9F4A1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E27D-FD8B-49B4-A15A-B4629ABDB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01B5-5755-4876-8127-405BA123C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054C-03DF-4B82-8F13-34939C7BB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0FA8-9379-43D2-9577-305BFC265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4FCD-221C-4607-A6A5-E28BF00B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1678-77CB-4078-88C0-DC3D511B8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B28B-C102-41C8-8526-77E60BC3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A87D1-721D-48E2-9523-4F3441E88ADD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1.3 Narrative Tex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47640" y="184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70563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Narrative Tex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What is Narrative 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ny writing that tells a s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ells a story in a connected series of ev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What types of materials are narrative 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wo of the most common types of narrative texts are short stories and novels.  It could also take the form of a biograph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Narrative Tex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What are the major elements of Narrative Tex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1f497d"/>
                </a:solidFill>
                <a:latin typeface="Calibri"/>
              </a:rPr>
              <a:t>Characters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re the people in a short story or no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Each character has certain qualities or </a:t>
            </a:r>
            <a:r>
              <a:rPr b="0" lang="en-CA" sz="3200" spc="-1" strike="noStrike">
                <a:solidFill>
                  <a:srgbClr val="1f497d"/>
                </a:solidFill>
                <a:latin typeface="Calibri"/>
              </a:rPr>
              <a:t>character traits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at the reader discovers as the story unfol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Narrative Tex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Calibri"/>
              </a:rPr>
              <a:t>What are the major elements of Narrative Text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Characters also have </a:t>
            </a:r>
            <a:r>
              <a:rPr b="0" lang="en-CA" sz="3000" spc="-1" strike="noStrike">
                <a:solidFill>
                  <a:srgbClr val="1f497d"/>
                </a:solidFill>
                <a:latin typeface="Calibri"/>
              </a:rPr>
              <a:t>motivations 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that cause them to act in a certain wa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CA" sz="3000" spc="-1" strike="noStrike">
                <a:solidFill>
                  <a:srgbClr val="1f497d"/>
                </a:solidFill>
                <a:latin typeface="Calibri"/>
              </a:rPr>
              <a:t>plot 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is the sequence of events that happens in a story or novel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Usually the plot involves one or more </a:t>
            </a:r>
            <a:r>
              <a:rPr b="0" lang="en-CA" sz="3000" spc="-1" strike="noStrike">
                <a:solidFill>
                  <a:srgbClr val="1f497d"/>
                </a:solidFill>
                <a:latin typeface="Calibri"/>
              </a:rPr>
              <a:t>conflicts, or struggles 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between two opposing forc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Narrative Tex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What are the major elements of Narrative Tex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CA" sz="3200" spc="-1" strike="noStrike">
                <a:solidFill>
                  <a:srgbClr val="1f497d"/>
                </a:solidFill>
                <a:latin typeface="Calibri"/>
              </a:rPr>
              <a:t>resolution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of the plot shows how the conflict is resolved, or cleared 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CA" sz="3200" spc="-1" strike="noStrike">
                <a:solidFill>
                  <a:srgbClr val="1f497d"/>
                </a:solidFill>
                <a:latin typeface="Calibri"/>
              </a:rPr>
              <a:t>setting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is the </a:t>
            </a:r>
            <a:r>
              <a:rPr b="0" lang="en-CA" sz="3200" spc="-1" strike="noStrike">
                <a:solidFill>
                  <a:srgbClr val="1f497d"/>
                </a:solidFill>
                <a:latin typeface="Calibri"/>
              </a:rPr>
              <a:t>time and place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in which the action of a story takes pla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Often the setting affects the </a:t>
            </a:r>
            <a:r>
              <a:rPr b="0" lang="en-CA" sz="3200" spc="-1" strike="noStrike">
                <a:solidFill>
                  <a:srgbClr val="1f497d"/>
                </a:solidFill>
                <a:latin typeface="Calibri"/>
              </a:rPr>
              <a:t>mood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of the s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Narrative Tex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Calibri"/>
              </a:rPr>
              <a:t>What are the major elements of Narrative Text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CA" sz="3000" spc="-1" strike="noStrike">
                <a:solidFill>
                  <a:srgbClr val="1f497d"/>
                </a:solidFill>
                <a:latin typeface="Calibri"/>
              </a:rPr>
              <a:t>theme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 of a story is the main idea or message that the author wants you to think abou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1f497d"/>
                </a:solidFill>
                <a:latin typeface="Calibri"/>
              </a:rPr>
              <a:t>Figures of Speech 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include the use of imaginative language that is not meant to be taken as literal truth.  Some common figures of speech are </a:t>
            </a:r>
            <a:r>
              <a:rPr b="0" lang="en-CA" sz="3000" spc="-1" strike="noStrike">
                <a:solidFill>
                  <a:srgbClr val="1f497d"/>
                </a:solidFill>
                <a:latin typeface="Calibri"/>
              </a:rPr>
              <a:t>similes, metaphors, personification and hyperbo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189000"/>
            <a:ext cx="90360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8T15:09:36Z</dcterms:created>
  <dc:creator>Jason</dc:creator>
  <dc:description/>
  <dc:language>en-US</dc:language>
  <cp:lastModifiedBy>Jason</cp:lastModifiedBy>
  <dcterms:modified xsi:type="dcterms:W3CDTF">2011-02-09T17:54:02Z</dcterms:modified>
  <cp:revision>8</cp:revision>
  <dc:subject/>
  <dc:title>1.3 Narrative Text</dc:title>
</cp:coreProperties>
</file>